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E5D-173B-4358-A39E-D1BD7DF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B23-88C3-400D-9E14-0C358FE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BF5-5458-4186-9067-41273317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64B-39C0-452A-89E1-C4FD9B58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819-3505-4C6D-9CF9-2A27F5E3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2BC-0A1E-4518-BC83-2879097B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7B4C-5B68-4034-854F-2DDB2A9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BC69-DFBC-4A66-8B6B-514BE799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0D9-564E-440A-A156-086F373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DCFE-7575-4B83-A2CA-FF8DC15A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0FAA-2C3B-46A6-AB66-C699080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752-6A53-4652-9371-41A6EAA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63A-AE59-4D60-9A41-B8FCC2C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FC1-B9BC-4E0A-A2DD-5F397B4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20A-D17B-4521-953B-64CD4E0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5747-9870-4EF8-9CA8-1C33E1E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DF6-FBC7-44B9-9A0A-450C75F5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B2D-1D08-4685-ACAD-02A7C205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F2B-3302-47C5-8BBE-8B4C8CF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3BB-67D7-4A11-99D7-B16B429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B74-90A6-4D25-8FB5-70895027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D41-43AD-4D9B-82E1-E51C79EB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91A-B767-48CC-908D-830B9FE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E77-F3E2-47A5-8C50-882DE8E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878-831F-417B-8A71-F3965F416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0D1F-051D-4EEC-BB03-074123C40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MSj00746740000%5B1%5D.wav" TargetMode="External"/><Relationship Id="rId7" Type="http://schemas.microsoft.com/office/2007/relationships/media" Target="file:///tmp/home/.config/libreoffice/4/user/gallery/MSj00746740000%5B1%5D.wav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7e7ff"/>
                </a:solidFill>
                <a:latin typeface="Arial"/>
              </a:rPr>
              <a:t>Recycling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e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b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u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aste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ps of food, organ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ana P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448080" cy="434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51814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440400" y="3583080"/>
          <a:ext cx="60984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0400" y="358308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79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pape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Car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on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297180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03976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00800" y="3124080"/>
            <a:ext cx="2743200" cy="18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1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81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c 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893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plastic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Bot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B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T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c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264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971800" cy="248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2667240" cy="255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1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type of rubb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bers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ber Gl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2640" y="1676160"/>
            <a:ext cx="4189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267080" cy="3044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cycling Tips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bot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cycling b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t to make fertil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water in our home (bathwater and dishwashing water can water our pl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41940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e old electronics to businesses or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possible recyclable objects/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 artist (give materials to students or schools for project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38840" cy="26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57:02Z</dcterms:created>
  <dc:creator>USER</dc:creator>
  <dc:description/>
  <dc:language>en-US</dc:language>
  <cp:lastModifiedBy>USER</cp:lastModifiedBy>
  <dcterms:modified xsi:type="dcterms:W3CDTF">2009-10-08T15:03:43Z</dcterms:modified>
  <cp:revision>5</cp:revision>
  <dc:subject/>
  <dc:title>Recycling</dc:title>
</cp:coreProperties>
</file>